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28.wmf" ContentType="image/x-wmf"/>
  <Override PartName="/ppt/media/image13.wmf" ContentType="image/x-wmf"/>
  <Override PartName="/ppt/media/image25.gif" ContentType="image/gi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6.gif" ContentType="image/gif"/>
  <Override PartName="/ppt/media/image5.jpeg" ContentType="image/jpeg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3.jpeg" ContentType="image/jpeg"/>
  <Override PartName="/ppt/media/image19.png" ContentType="image/png"/>
  <Override PartName="/ppt/media/image16.gif" ContentType="image/gi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35E-9FC8-4E9C-AF9C-4A61BE13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FC1-BDF6-435C-B17F-DDEF2AC1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9A3-A559-4A28-911A-A3C072F4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8C96-4DFB-4D62-BDF3-38C1A55F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7E80-7692-4A72-BFD2-E5E36AB2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778-7638-4B9C-A67A-4BBF324F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D4E4-BD37-424E-9237-55FD95BA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493-1178-4EE2-AA21-99D4F67A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A26-601E-4C4C-AC67-002CA461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6FD9-3D41-4790-BC68-5A35E0C2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5E7-44A3-4FB7-8485-FE0B045A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C2C2-F233-48C0-A08E-86979D56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24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57E4-9500-48BD-B7F1-877BA3E1A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gif"/><Relationship Id="rId6" Type="http://schemas.openxmlformats.org/officeDocument/2006/relationships/image" Target="../media/image15.wmf"/><Relationship Id="rId7" Type="http://schemas.openxmlformats.org/officeDocument/2006/relationships/image" Target="../media/image16.gif"/><Relationship Id="rId8" Type="http://schemas.openxmlformats.org/officeDocument/2006/relationships/image" Target="../media/image26.gif"/><Relationship Id="rId9" Type="http://schemas.openxmlformats.org/officeDocument/2006/relationships/image" Target="../media/image2.wmf"/><Relationship Id="rId10" Type="http://schemas.openxmlformats.org/officeDocument/2006/relationships/image" Target="../media/image1.wmf"/><Relationship Id="rId11" Type="http://schemas.openxmlformats.org/officeDocument/2006/relationships/image" Target="../media/image27.wmf"/><Relationship Id="rId12" Type="http://schemas.openxmlformats.org/officeDocument/2006/relationships/image" Target="../media/image14.wmf"/><Relationship Id="rId13" Type="http://schemas.openxmlformats.org/officeDocument/2006/relationships/image" Target="../media/image28.wmf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1219320"/>
            <a:ext cx="69008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 ELEVATOR 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1480" y="4713120"/>
            <a:ext cx="263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ik Grimsh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cos 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eban Samb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se Ignacio San J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73400" y="3471840"/>
            <a:ext cx="268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ember 1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m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48520" y="3673440"/>
            <a:ext cx="2133360" cy="2117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2619360"/>
            <a:ext cx="168912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CC4C-79BE-48DB-9C66-26F352AA73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4520" y="179280"/>
            <a:ext cx="602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rial Problem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4952880"/>
            <a:ext cx="7467840" cy="111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Minimize time elevators spend to distrib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and faculty into KMC floors @ peak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762012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assign elevators to passengers in real time while optimizing different elevator configurations with respect to overall service quality, traffic throughput, energy consumption, et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 OR, more simply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timal arrangement by which the three elevators of the Kaufman Management Center and the four elevators of Skimkin Hall can be s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9F4-FC88-49C9-99D9-5C77D15128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240" y="17928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206360"/>
            <a:ext cx="716292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urc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ern Administration, Team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” for Elev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um capacity per class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y” of Elev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ary capacity per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time to walk up a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elevator time between 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elevator sto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C92F-F3E3-45C2-AD24-BFA49361E2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320" y="179280"/>
            <a:ext cx="27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11132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v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ary capacity per elevator: KMC 15, Shimkin 18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between floors: 3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time: 10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or capacity equally distributed among floor s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ors will always stop at the designated 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for elevators only exists on first floor, and all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will walk up one flight and down two rather than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herent preferences among riders (all equally acce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interested in total demand at peak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ignore demand from one intermediate floor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6A7-20A7-4464-89B9-E919ECC9B4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5960" y="179280"/>
            <a:ext cx="25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066680"/>
            <a:ext cx="8697960" cy="56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ision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nary 1/0 per elevator per floor (1 = Elevator stops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runs per elevator from first to terminal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ize elevators’ tot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floors are served with minimum one elevator except floo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ty served per floor higher or equal to floor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minimum runs per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ce between number of runs made by the most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or and that made by the least active elevator can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ed 9 (“balance” constrain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C14-79C6-4E4A-8088-BD9BF07E9C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240" y="179280"/>
            <a:ext cx="270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973080"/>
            <a:ext cx="9031320" cy="46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ulate demand for each floor from first floor at various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e capacity information from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utilization percentages for classroom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Evolutionary Solver for five demand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:00AM, 10.30AM, 12:00PM, 1.30 PM, 6:0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solver run mandates at least 3 elevators stop at each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cessive runs gradually eliminate elevator stop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 where service capacity greatly exceeds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solver’s mandated stop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runs to avoid local mi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5473800"/>
            <a:ext cx="27432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e context of evolutionary algorithms, policies can be interpreted as successful genes that have to be combined to make up a complete genome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16A-B09D-4524-97EB-1C514FEABF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5600" y="179280"/>
            <a:ext cx="56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and Simulation for 9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461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AFA-C70B-4C6C-9D05-3B2B8B3462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5960" y="17928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l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833400"/>
            <a:ext cx="8229600" cy="55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29C9-5702-4826-A038-2A76450550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960" y="17928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l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62320" y="3838680"/>
            <a:ext cx="4400280" cy="2305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362320" y="1247760"/>
            <a:ext cx="4402080" cy="230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B58A-C388-4CBF-8BA9-206E7AAA69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240" y="179280"/>
            <a:ext cx="34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imize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00" y="960480"/>
            <a:ext cx="763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Time: 4554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um elevator run time to serve demand @ 9 a.m. 22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erage time per person to reach desired floor 4.84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315200" cy="457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1CB9-45EC-421F-A060-9F0A94A753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5600" y="179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62040" y="1531800"/>
            <a:ext cx="7719840" cy="410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D7A-C2EC-4EEB-8885-FF1EB1B84E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00200"/>
            <a:ext cx="7696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920" y="17928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550880"/>
            <a:ext cx="853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Guidelines/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ons of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8002" t="24000" r="2002" b="22669"/>
          <a:stretch/>
        </p:blipFill>
        <p:spPr>
          <a:xfrm>
            <a:off x="1676520" y="4038480"/>
            <a:ext cx="5410080" cy="240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709-AC77-42C0-A44E-232728C8AD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600" y="179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243080"/>
            <a:ext cx="8839440" cy="42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 peak hours, if you are going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, take the stairs (average time of 1:30 mi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 or higher, keep in mind a likely waiting time of over 4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ing time depends heavily on whether the most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on the KMC upper floors or not - it took longe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to wait for an elevator at noon, when the only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was for the 11th floor, than it did to get an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6pm, where there are many more people but they all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 on floors 3-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857-1874-4F68-9EA9-8BF1F3E9EE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3124080"/>
            <a:ext cx="7696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20" y="17928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550880"/>
            <a:ext cx="853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Guidelines/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s of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B4E-5D65-449D-AB61-036029A8A6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3800" y="179280"/>
            <a:ext cx="50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ons Of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550880"/>
            <a:ext cx="88394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opportunity costs that penalize low # of ru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interarrival times and distribution of demand per 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complex network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new technology (elevator optimiz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44B-EFF2-4189-805A-2C9EDB2140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6040" y="17928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vator Optimizer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093680"/>
            <a:ext cx="883944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ized computer-base elevator manage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levators have no floor buttons 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enter the floor you want to go to in a touchpad located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floor outside the elev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assigns you to one elevator using a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med optimize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ouchpad shows the elevator you need to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an optimizer application is managing the elevators,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operated at maximum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886440" y="4898880"/>
            <a:ext cx="907920" cy="1431720"/>
            <a:chOff x="6886440" y="4898880"/>
            <a:chExt cx="907920" cy="143172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6886440" y="4898880"/>
              <a:ext cx="90792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flipV="1">
              <a:off x="6974280" y="5103000"/>
              <a:ext cx="706320" cy="818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74280" y="5103000"/>
              <a:ext cx="706320" cy="818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98640" y="5051520"/>
            <a:ext cx="1135080" cy="119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191E-0FB8-4A81-9D56-322EEC9603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05120" y="2743200"/>
            <a:ext cx="5257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953400" y="1752480"/>
            <a:ext cx="1428480" cy="1447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064040" y="4648320"/>
            <a:ext cx="965160" cy="1530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38080" y="914400"/>
            <a:ext cx="129564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6119-403D-41E0-AE81-B99DCF8B7D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05120" y="2743200"/>
            <a:ext cx="5257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Back-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953400" y="1752480"/>
            <a:ext cx="1428480" cy="1447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064040" y="4648320"/>
            <a:ext cx="965160" cy="1530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38080" y="914400"/>
            <a:ext cx="129564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6357-9A9C-4D17-BE36-1831D6335F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2360" y="15228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imized model For 10:30, 1:30 and 3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467480" cy="2716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7466040" cy="271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3498-758D-4071-B787-4E7B8B72B6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7640" y="152280"/>
            <a:ext cx="713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imized model For 12:00 and 6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92160" y="866880"/>
            <a:ext cx="7462800" cy="2714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3600" y="3657600"/>
            <a:ext cx="7463160" cy="271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E1E-73E5-482A-B514-DADB042910B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640" y="179280"/>
            <a:ext cx="164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905040" cy="905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72396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71600" y="3581280"/>
            <a:ext cx="1766880" cy="1317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495680" y="3981600"/>
            <a:ext cx="1270080" cy="2495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7086600" y="990720"/>
            <a:ext cx="857160" cy="828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7238880" y="2362320"/>
            <a:ext cx="1109880" cy="1758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762120" y="5486400"/>
            <a:ext cx="961920" cy="905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7086600" y="4495680"/>
            <a:ext cx="1352520" cy="924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457200" y="2666880"/>
            <a:ext cx="1689120" cy="1876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4724280" y="2057400"/>
            <a:ext cx="1722600" cy="1709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2819520" y="2133720"/>
            <a:ext cx="1042920" cy="1081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6095880" y="5257800"/>
            <a:ext cx="1238400" cy="1254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2514600" y="5105520"/>
            <a:ext cx="1477800" cy="1496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4"/>
          <a:stretch/>
        </p:blipFill>
        <p:spPr>
          <a:xfrm>
            <a:off x="2362320" y="304920"/>
            <a:ext cx="1120680" cy="152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7F42-9696-4C7F-A7A0-8DCFAE6585A4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9920" y="179280"/>
            <a:ext cx="66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vators are a hot issue @ 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853416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rn has 7 elev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@ KMC that go up to the 1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@ Skimkin that go up to the 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sch Hall “back door” not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students use the stairs @ peak times. Some qu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vators take yea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rather walk up to the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; it’s fast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I want is a frickin’ elevator.  Is that so wrong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challenge: is there a better alterna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90A-7D2A-4205-8CDA-7F77A9959D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2360" y="179280"/>
            <a:ext cx="840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vator Optimization – Some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295280"/>
            <a:ext cx="8076960" cy="3414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icient elevator group control is a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mplex combinatorial optimiz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.  Recent developments in this fiel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 the use of reinforcement learning, fuzz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, neural networks and evolutionary algorithms [Mar95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B98].  …Meta-heuristics might be useful as qui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velop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chniques to create a new generation of self-adaptive elevator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ontro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ystems that can handle high maximum traffic situations.  Additionally, population ba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uristics such as evolution strategies can be easily parallel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09B-7391-4EA5-BE42-FB28C3C26A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2360" y="179280"/>
            <a:ext cx="840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vator Optimization – Some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62280" y="2919240"/>
            <a:ext cx="3619440" cy="3165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44520" y="601992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-Ring as an Elevato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266840"/>
            <a:ext cx="7925040" cy="155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oblem is related to many other stochastic traffic control problems, especially with respect to the complex behavior and to many difficulties in analysis, design, simulation, and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9D7-D7D3-44E2-A60D-87F85536E8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7040" y="1792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133720"/>
            <a:ext cx="8076960" cy="3020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as Beielstein, Sandor Markon, and Mike Preu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rallel Approach to Elevator Optimization Based on Soft Comput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aper prepar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2003: The Fifth Metaheuristics International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yoto, August 23-25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1B28-CD79-4222-84FB-F3B6E3B69E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2133720"/>
            <a:ext cx="76960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550880"/>
            <a:ext cx="853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Guidelines/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ons of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20" y="17928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333600"/>
            <a:ext cx="3581280" cy="268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55F-2D99-4E49-B4A1-C676458036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4280" y="179280"/>
            <a:ext cx="84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al Guidelines To “Survive” Elev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371600"/>
            <a:ext cx="8839440" cy="42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 peak hours, if you are going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, take the stairs (average time of 1:30 mi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 or higher, keep in mind the wait time will likely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least 4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efficient elevators would imply some “radical” measur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elevator capacity/number of elev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y complex network modeling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a new technology (elevator optimiz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 with arrival times/queue system (e.g. form a 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ue in lobb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D2F-4C9D-4EF8-8064-4EA5D355C0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2057400"/>
            <a:ext cx="7696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91440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guidelines/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rial Problem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ons of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17928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8C9-03C2-416F-B02D-AE4D883232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6T16:24:30Z</dcterms:created>
  <dc:creator>Esteban Samboal</dc:creator>
  <dc:description/>
  <dc:language>en-US</dc:language>
  <cp:lastModifiedBy>baseuser</cp:lastModifiedBy>
  <dcterms:modified xsi:type="dcterms:W3CDTF">2003-12-01T13:54:01Z</dcterms:modified>
  <cp:revision>77</cp:revision>
  <dc:subject/>
  <dc:title>Slide 1</dc:title>
</cp:coreProperties>
</file>